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13003213" cy="975201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01240" y="1240920"/>
            <a:ext cx="44658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715A-CDDF-4898-9A0F-4082A02C4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64E1-3445-46D0-B5F7-2ABD30B18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01600" y="1241280"/>
            <a:ext cx="4465800" cy="33498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A446-C5E2-4159-81C0-677247060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01600" y="1241280"/>
            <a:ext cx="4465800" cy="33498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0940-3310-4C2A-9991-4E1518343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01600" y="1241280"/>
            <a:ext cx="4465800" cy="33498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1105560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04760" y="5687640"/>
            <a:ext cx="1105560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6972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04760" y="568764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69720" y="568764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2640" y="177120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480880" y="177120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04760" y="568764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42640" y="568764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480880" y="568764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539496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69720" y="1771200"/>
            <a:ext cx="539496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4880" y="11160"/>
            <a:ext cx="120297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69720" y="1771200"/>
            <a:ext cx="539496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4760" y="568764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539496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6972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69720" y="568764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6972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04760" y="5687640"/>
            <a:ext cx="1105560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1105560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04760" y="5687640"/>
            <a:ext cx="1105560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6972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04760" y="568764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69720" y="568764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2640" y="177120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480880" y="177120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04760" y="568764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742640" y="568764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480880" y="568764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539496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9720" y="1771200"/>
            <a:ext cx="539496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74880" y="11160"/>
            <a:ext cx="120297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69720" y="1771200"/>
            <a:ext cx="539496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4760" y="568764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539496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6972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69720" y="568764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6972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4760" y="5687640"/>
            <a:ext cx="1105560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1105560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4760" y="5687640"/>
            <a:ext cx="1105560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66972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4760" y="568764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669720" y="568764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2640" y="177120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480880" y="177120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4760" y="568764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742640" y="568764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480880" y="5687640"/>
            <a:ext cx="355968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539496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69720" y="1771200"/>
            <a:ext cx="539496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4880" y="11160"/>
            <a:ext cx="120297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69720" y="1771200"/>
            <a:ext cx="539496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04760" y="568764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539496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6972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69720" y="568764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4880" y="7560"/>
            <a:ext cx="12029760" cy="10915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476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69720" y="1771200"/>
            <a:ext cx="539496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04760" y="5687640"/>
            <a:ext cx="11055600" cy="35762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74880" cy="975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20920"/>
            <a:ext cx="6719760" cy="215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74880" y="9428040"/>
            <a:ext cx="4986360" cy="32400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085760" y="11160"/>
            <a:ext cx="11918880" cy="1084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4046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623960" indent="-323640"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2274840" indent="-3236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925720" indent="-323640"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925720" indent="-323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925720" indent="-323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2058840" cy="97520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2058840"/>
            <a:ext cx="13003200" cy="249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4984920"/>
            <a:ext cx="6719760" cy="217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4046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623960" indent="-323640"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2274840" indent="-3236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925720" indent="-323640"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925720" indent="-323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925720" indent="-323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74880" cy="975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420920"/>
            <a:ext cx="6719760" cy="215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974880" y="9428040"/>
            <a:ext cx="4986360" cy="32400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085760" y="11160"/>
            <a:ext cx="11918880" cy="1084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90360" y="100080"/>
            <a:ext cx="12819240" cy="9518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4046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623960" indent="-323640"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2274840" indent="-3236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925720" indent="-323640"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925720" indent="-323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925720" indent="-323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4520" y="2384280"/>
            <a:ext cx="11055240" cy="195120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w Cen MT Condensed"/>
              </a:rPr>
              <a:t>Iterators and Generators</a:t>
            </a:r>
            <a:endParaRPr b="0" lang="en-US" sz="7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925720" y="5851440"/>
            <a:ext cx="9104400" cy="249408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Giuseppe Attard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ipartimento di Informatic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Università di Pi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CMM Garbage Collector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tional Mostly Copying Collect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color mark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te object are copied to NextGeneration and turned into gray by function scavenge(x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y objects are turned to black by invoking x.traverse(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.traverse() in turn call scavenge(p) for all pointers p in 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CMM Phases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1173240" y="3868560"/>
            <a:ext cx="11580840" cy="3095640"/>
          </a:xfrm>
          <a:prstGeom prst="rect">
            <a:avLst/>
          </a:prstGeom>
          <a:ln w="0">
            <a:noFill/>
          </a:ln>
        </p:spPr>
      </p:pic>
      <p:sp>
        <p:nvSpPr>
          <p:cNvPr id="302" name="TextBox 4"/>
          <p:cNvSpPr/>
          <p:nvPr/>
        </p:nvSpPr>
        <p:spPr>
          <a:xfrm>
            <a:off x="1030320" y="32925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oot Se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2470320" y="32925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ea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4773600" y="32925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oot Se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215040" y="32925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ea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8447040" y="32925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oot Se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Box 9"/>
          <p:cNvSpPr/>
          <p:nvPr/>
        </p:nvSpPr>
        <p:spPr>
          <a:xfrm>
            <a:off x="9887040" y="32925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ea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1246320" y="768492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fore Collec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Box 11"/>
          <p:cNvSpPr/>
          <p:nvPr/>
        </p:nvSpPr>
        <p:spPr>
          <a:xfrm>
            <a:off x="4773600" y="7684920"/>
            <a:ext cx="34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fter Page Promo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Box 12"/>
          <p:cNvSpPr/>
          <p:nvPr/>
        </p:nvSpPr>
        <p:spPr>
          <a:xfrm>
            <a:off x="9166320" y="768492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fter Compac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CMM Visitor Pattern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CmmObject {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id* operator new(size_t, CmmHeap*)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al void traverse() = 0;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// accept visiting G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id mark()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Node : public CmmObject {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id traverse() {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venge(left);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// GC vis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venge(right);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// GC vis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}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74520" y="2384280"/>
            <a:ext cx="11055240" cy="195120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Iterators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2925720" y="5851440"/>
            <a:ext cx="9104400" cy="24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C++ Template Enumeration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176120" y="2415960"/>
            <a:ext cx="11518920" cy="687708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 Typewriter"/>
              </a:rPr>
              <a:t>template&lt;class T&gt;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 Typewriter"/>
              </a:rPr>
              <a:t>class EnumerableVector : std::vector&lt;T&gt; {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Lucida Sans Typewriter"/>
              </a:rPr>
              <a:t>public: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Lucida Sans Typewriter"/>
              </a:rPr>
              <a:t>Enumeration getEnumeration() {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Lucida Sans Typewriter"/>
              </a:rPr>
              <a:t>return (Enumeration(this));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Lucida Sans Typewriter"/>
              </a:rPr>
              <a:t>class Enumeration { … }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 Typewriter"/>
              </a:rPr>
              <a:t>};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Enumeration (2)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class Enumeration {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private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vector&lt;T&gt; const* vp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unsigned idx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public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Enumeration(vector&lt;T&gt; const* vector) 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vp(vector), idx(0)  {  }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T const&amp; next() { // uses 'T</a:t>
            </a:r>
            <a:r>
              <a:rPr b="0" lang="ja-JP" sz="2500" spc="-1" strike="noStrike">
                <a:solidFill>
                  <a:srgbClr val="000000"/>
                </a:solidFill>
                <a:latin typeface="Lucida Sans Typewriter"/>
              </a:rPr>
              <a:t>‘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if (idx == vp-&gt;size()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throw NoSuchElementException(index)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return (*vp)[idx++]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bool hasNext() { return idx &lt; vp-&gt;size(); }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Typewriter"/>
              </a:rPr>
              <a:t>};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Enumeration (3)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EnumerableVector&lt;int&gt; ev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EnumerableVector&lt;int&gt;::Enumeration en = ev.getEnumeration()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while (en.hasNext()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cout &lt;&lt; en.next() &lt;&lt; endl;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C# Iterators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74880" y="2415960"/>
            <a:ext cx="11936160" cy="687708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interface IEnumerable&lt;T&gt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interface IEnumerator&lt;T&gt; : IDisposable {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bool MoveNext()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T Current { get; 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void Dispose()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Java Enumeration Interface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interface Enumeration&lt;T&gt; {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boolean hasMoreElements()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T nextElement()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Java Iterator Interface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interface Iterator&lt;T&gt; {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boolean hasNext()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T next()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void remove()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What is an iterator?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635040" indent="-50796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terator is an object that can be used to control the iteration behavior of a loo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5040" indent="-50796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generat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yiel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alues one at a time instead of returning all valu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5040" indent="-50796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enefits of using generators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50796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nerates values on deman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50796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quires less memor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50796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lows the caller to start processing immediatel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50796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s the performance of an applicat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507960">
              <a:spcBef>
                <a:spcPts val="8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35040" indent="-50796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Java for loop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List&lt;String&gt; items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(String item : items) {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.out.println(item)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s for any object that implements th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terabl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Java Iterable Interface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 Iterable&lt;T&gt; {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tor&lt;T&gt; iterator()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id forEach(Consumer&lt;? super T&gt; action)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ault Spliterator&lt;T&gt; spliterator()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Java 8: forEach + lambda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74880" y="2415960"/>
            <a:ext cx="12029760" cy="687708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Typewriter"/>
              </a:rPr>
              <a:t>Map&lt;String, Integer&gt; items 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Typewriter"/>
              </a:rPr>
              <a:t>new HashMap&lt;&gt;();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Typewriter"/>
              </a:rPr>
              <a:t>items.put("A", 10); 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Typewriter"/>
              </a:rPr>
              <a:t>items.forEach((k,v)-&gt;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Lucida Sans Typewriter"/>
              </a:rPr>
              <a:t>System.out.println("Item: " + k + " Count: " + v));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// method reference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items.forEach(System.out::println);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Python Iterators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tain an iterator. Method in iterable class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def __iter__(self): 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tor interface. Single metho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def __next__(self): 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tion by rais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StopIterationExce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tin function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iter(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akes an iterable object and returns an iterat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50840" y="2355840"/>
            <a:ext cx="11055240" cy="195120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w Cen MT Condensed"/>
              </a:rPr>
              <a:t>Generators</a:t>
            </a:r>
            <a:endParaRPr b="0" lang="en-US" sz="6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2925720" y="5851440"/>
            <a:ext cx="9104400" cy="24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What is a generator?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generator is an iterator (not viceversa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ethod or a function can be turned into a generator by a specific language construct like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50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Problem: collecting all results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74520" y="2355480"/>
            <a:ext cx="5825880" cy="707076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69800" indent="-34272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cumulator i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FindBlue(Node n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Nodes buf = new Node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f (n.color == Blu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buf.append(n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for (Node child: n.children()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buf.append(FindBlue(child)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return buf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B = FindBlue(roo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Node b: B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Read(b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Write(b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Play(b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Empty(b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6959520" y="2476440"/>
            <a:ext cx="4889520" cy="5175360"/>
            <a:chOff x="6959520" y="2476440"/>
            <a:chExt cx="4889520" cy="5175360"/>
          </a:xfrm>
        </p:grpSpPr>
        <p:grpSp>
          <p:nvGrpSpPr>
            <p:cNvPr id="342" name="Group 4"/>
            <p:cNvGrpSpPr/>
            <p:nvPr/>
          </p:nvGrpSpPr>
          <p:grpSpPr>
            <a:xfrm>
              <a:off x="7188120" y="2476440"/>
              <a:ext cx="4432320" cy="3720960"/>
              <a:chOff x="7188120" y="2476440"/>
              <a:chExt cx="4432320" cy="3720960"/>
            </a:xfrm>
          </p:grpSpPr>
          <p:sp>
            <p:nvSpPr>
              <p:cNvPr id="343" name="Line 5"/>
              <p:cNvSpPr/>
              <p:nvPr/>
            </p:nvSpPr>
            <p:spPr>
              <a:xfrm flipV="1">
                <a:off x="8134200" y="2730600"/>
                <a:ext cx="984240" cy="90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44" name="Line 6"/>
              <p:cNvSpPr/>
              <p:nvPr/>
            </p:nvSpPr>
            <p:spPr>
              <a:xfrm flipV="1">
                <a:off x="8928000" y="2787480"/>
                <a:ext cx="254160" cy="80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45" name="Line 7"/>
              <p:cNvSpPr/>
              <p:nvPr/>
            </p:nvSpPr>
            <p:spPr>
              <a:xfrm flipH="1" flipV="1">
                <a:off x="9276840" y="2774520"/>
                <a:ext cx="368280" cy="81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46" name="Line 8"/>
              <p:cNvSpPr/>
              <p:nvPr/>
            </p:nvSpPr>
            <p:spPr>
              <a:xfrm flipH="1" flipV="1">
                <a:off x="9340920" y="2724120"/>
                <a:ext cx="1079280" cy="9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47" name="Line 9"/>
              <p:cNvSpPr/>
              <p:nvPr/>
            </p:nvSpPr>
            <p:spPr>
              <a:xfrm flipV="1">
                <a:off x="7460280" y="3873600"/>
                <a:ext cx="46692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48" name="Line 10"/>
              <p:cNvSpPr/>
              <p:nvPr/>
            </p:nvSpPr>
            <p:spPr>
              <a:xfrm flipH="1" flipV="1">
                <a:off x="8102520" y="3873600"/>
                <a:ext cx="32400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49" name="Line 11"/>
              <p:cNvSpPr/>
              <p:nvPr/>
            </p:nvSpPr>
            <p:spPr>
              <a:xfrm flipV="1">
                <a:off x="7441560" y="5454720"/>
                <a:ext cx="361800" cy="45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0" name="Line 12"/>
              <p:cNvSpPr/>
              <p:nvPr/>
            </p:nvSpPr>
            <p:spPr>
              <a:xfrm flipH="1" flipV="1">
                <a:off x="7962840" y="5460480"/>
                <a:ext cx="28584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1" name="Line 13"/>
              <p:cNvSpPr/>
              <p:nvPr/>
            </p:nvSpPr>
            <p:spPr>
              <a:xfrm flipV="1">
                <a:off x="9302760" y="3879720"/>
                <a:ext cx="342720" cy="5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2" name="Line 14"/>
              <p:cNvSpPr/>
              <p:nvPr/>
            </p:nvSpPr>
            <p:spPr>
              <a:xfrm flipV="1">
                <a:off x="8946360" y="4711320"/>
                <a:ext cx="222120" cy="46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3" name="Line 15"/>
              <p:cNvSpPr/>
              <p:nvPr/>
            </p:nvSpPr>
            <p:spPr>
              <a:xfrm flipH="1" flipV="1">
                <a:off x="8953560" y="5448240"/>
                <a:ext cx="20304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4" name="Line 16"/>
              <p:cNvSpPr/>
              <p:nvPr/>
            </p:nvSpPr>
            <p:spPr>
              <a:xfrm flipH="1" flipV="1">
                <a:off x="9308520" y="4699080"/>
                <a:ext cx="311400" cy="48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5" name="Line 17"/>
              <p:cNvSpPr/>
              <p:nvPr/>
            </p:nvSpPr>
            <p:spPr>
              <a:xfrm flipH="1" flipV="1">
                <a:off x="9734040" y="3886200"/>
                <a:ext cx="63720" cy="52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6" name="Line 18"/>
              <p:cNvSpPr/>
              <p:nvPr/>
            </p:nvSpPr>
            <p:spPr>
              <a:xfrm flipV="1">
                <a:off x="10445760" y="3898440"/>
                <a:ext cx="63360" cy="52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7" name="Line 19"/>
              <p:cNvSpPr/>
              <p:nvPr/>
            </p:nvSpPr>
            <p:spPr>
              <a:xfrm flipH="1" flipV="1">
                <a:off x="10636200" y="3871800"/>
                <a:ext cx="419040" cy="566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8" name="Line 20"/>
              <p:cNvSpPr/>
              <p:nvPr/>
            </p:nvSpPr>
            <p:spPr>
              <a:xfrm flipV="1">
                <a:off x="10292400" y="4711680"/>
                <a:ext cx="101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9" name="Line 21"/>
              <p:cNvSpPr/>
              <p:nvPr/>
            </p:nvSpPr>
            <p:spPr>
              <a:xfrm flipV="1">
                <a:off x="10895760" y="4705200"/>
                <a:ext cx="190440" cy="47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60" name="Line 22"/>
              <p:cNvSpPr/>
              <p:nvPr/>
            </p:nvSpPr>
            <p:spPr>
              <a:xfrm flipH="1" flipV="1">
                <a:off x="11201040" y="4698720"/>
                <a:ext cx="190440" cy="47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61" name="Line 23"/>
              <p:cNvSpPr/>
              <p:nvPr/>
            </p:nvSpPr>
            <p:spPr>
              <a:xfrm flipV="1">
                <a:off x="10356840" y="5441400"/>
                <a:ext cx="387360" cy="41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62" name="Line 24"/>
              <p:cNvSpPr/>
              <p:nvPr/>
            </p:nvSpPr>
            <p:spPr>
              <a:xfrm flipV="1">
                <a:off x="10839240" y="5467320"/>
                <a:ext cx="0" cy="35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63" name="Line 25"/>
              <p:cNvSpPr/>
              <p:nvPr/>
            </p:nvSpPr>
            <p:spPr>
              <a:xfrm flipH="1" flipV="1">
                <a:off x="10941120" y="5422680"/>
                <a:ext cx="406080" cy="43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64" name="Oval 26"/>
              <p:cNvSpPr/>
              <p:nvPr/>
            </p:nvSpPr>
            <p:spPr>
              <a:xfrm>
                <a:off x="9067680" y="247644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65" name="Oval 27"/>
              <p:cNvSpPr/>
              <p:nvPr/>
            </p:nvSpPr>
            <p:spPr>
              <a:xfrm>
                <a:off x="7861320" y="3581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66" name="Oval 28"/>
              <p:cNvSpPr/>
              <p:nvPr/>
            </p:nvSpPr>
            <p:spPr>
              <a:xfrm>
                <a:off x="8724960" y="3581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67" name="Oval 29"/>
              <p:cNvSpPr/>
              <p:nvPr/>
            </p:nvSpPr>
            <p:spPr>
              <a:xfrm>
                <a:off x="9550440" y="3581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68" name="Oval 30"/>
              <p:cNvSpPr/>
              <p:nvPr/>
            </p:nvSpPr>
            <p:spPr>
              <a:xfrm>
                <a:off x="10375920" y="3581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69" name="Oval 31"/>
              <p:cNvSpPr/>
              <p:nvPr/>
            </p:nvSpPr>
            <p:spPr>
              <a:xfrm>
                <a:off x="7188120" y="436860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0" name="Oval 32"/>
              <p:cNvSpPr/>
              <p:nvPr/>
            </p:nvSpPr>
            <p:spPr>
              <a:xfrm>
                <a:off x="7721640" y="5156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1" name="Oval 33"/>
              <p:cNvSpPr/>
              <p:nvPr/>
            </p:nvSpPr>
            <p:spPr>
              <a:xfrm>
                <a:off x="8191440" y="58798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2" name="Oval 34"/>
              <p:cNvSpPr/>
              <p:nvPr/>
            </p:nvSpPr>
            <p:spPr>
              <a:xfrm>
                <a:off x="7188120" y="58798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3" name="Oval 35"/>
              <p:cNvSpPr/>
              <p:nvPr/>
            </p:nvSpPr>
            <p:spPr>
              <a:xfrm>
                <a:off x="8343720" y="436860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4" name="Oval 36"/>
              <p:cNvSpPr/>
              <p:nvPr/>
            </p:nvSpPr>
            <p:spPr>
              <a:xfrm>
                <a:off x="9067680" y="440676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5" name="Oval 37"/>
              <p:cNvSpPr/>
              <p:nvPr/>
            </p:nvSpPr>
            <p:spPr>
              <a:xfrm>
                <a:off x="8724960" y="5156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6" name="Oval 38"/>
              <p:cNvSpPr/>
              <p:nvPr/>
            </p:nvSpPr>
            <p:spPr>
              <a:xfrm>
                <a:off x="9067680" y="58420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7" name="Oval 39"/>
              <p:cNvSpPr/>
              <p:nvPr/>
            </p:nvSpPr>
            <p:spPr>
              <a:xfrm>
                <a:off x="9550440" y="5156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8" name="Oval 40"/>
              <p:cNvSpPr/>
              <p:nvPr/>
            </p:nvSpPr>
            <p:spPr>
              <a:xfrm>
                <a:off x="9664560" y="440676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9" name="Oval 41"/>
              <p:cNvSpPr/>
              <p:nvPr/>
            </p:nvSpPr>
            <p:spPr>
              <a:xfrm>
                <a:off x="10261440" y="440676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80" name="Oval 42"/>
              <p:cNvSpPr/>
              <p:nvPr/>
            </p:nvSpPr>
            <p:spPr>
              <a:xfrm>
                <a:off x="10985400" y="440676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81" name="Oval 43"/>
              <p:cNvSpPr/>
              <p:nvPr/>
            </p:nvSpPr>
            <p:spPr>
              <a:xfrm>
                <a:off x="10083600" y="5156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82" name="Oval 44"/>
              <p:cNvSpPr/>
              <p:nvPr/>
            </p:nvSpPr>
            <p:spPr>
              <a:xfrm>
                <a:off x="10680480" y="5156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83" name="Oval 45"/>
              <p:cNvSpPr/>
              <p:nvPr/>
            </p:nvSpPr>
            <p:spPr>
              <a:xfrm>
                <a:off x="11290320" y="5156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84" name="Oval 46"/>
              <p:cNvSpPr/>
              <p:nvPr/>
            </p:nvSpPr>
            <p:spPr>
              <a:xfrm>
                <a:off x="10096560" y="582912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85" name="Oval 47"/>
              <p:cNvSpPr/>
              <p:nvPr/>
            </p:nvSpPr>
            <p:spPr>
              <a:xfrm>
                <a:off x="10680480" y="582912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86" name="Oval 48"/>
              <p:cNvSpPr/>
              <p:nvPr/>
            </p:nvSpPr>
            <p:spPr>
              <a:xfrm>
                <a:off x="11302920" y="582912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87" name="Line 49"/>
              <p:cNvSpPr/>
              <p:nvPr/>
            </p:nvSpPr>
            <p:spPr>
              <a:xfrm flipV="1">
                <a:off x="7896960" y="3903120"/>
                <a:ext cx="120600" cy="126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388" name="Rectangle 50"/>
            <p:cNvSpPr/>
            <p:nvPr/>
          </p:nvSpPr>
          <p:spPr>
            <a:xfrm>
              <a:off x="6959520" y="6838920"/>
              <a:ext cx="48895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MS PGothic"/>
                </a:rPr>
                <a:t>Find blue nodes and do something on each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With a Generator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74520" y="2415960"/>
            <a:ext cx="6175080" cy="687708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127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umerator&lt;Node&gt; FindBlue(Node n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f (n.color == Blu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yield return 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(Node child: n.children()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FindBlue(chil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Node n: FindBlue(root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Read(n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Write(n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Play(n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Empty(n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Delete(n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6959520" y="2476440"/>
            <a:ext cx="4889520" cy="5175360"/>
            <a:chOff x="6959520" y="2476440"/>
            <a:chExt cx="4889520" cy="5175360"/>
          </a:xfrm>
        </p:grpSpPr>
        <p:grpSp>
          <p:nvGrpSpPr>
            <p:cNvPr id="392" name="Group 4"/>
            <p:cNvGrpSpPr/>
            <p:nvPr/>
          </p:nvGrpSpPr>
          <p:grpSpPr>
            <a:xfrm>
              <a:off x="7188120" y="2476440"/>
              <a:ext cx="4432320" cy="3720960"/>
              <a:chOff x="7188120" y="2476440"/>
              <a:chExt cx="4432320" cy="3720960"/>
            </a:xfrm>
          </p:grpSpPr>
          <p:sp>
            <p:nvSpPr>
              <p:cNvPr id="393" name="Line 5"/>
              <p:cNvSpPr/>
              <p:nvPr/>
            </p:nvSpPr>
            <p:spPr>
              <a:xfrm flipV="1">
                <a:off x="8134200" y="2730600"/>
                <a:ext cx="984240" cy="90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94" name="Line 6"/>
              <p:cNvSpPr/>
              <p:nvPr/>
            </p:nvSpPr>
            <p:spPr>
              <a:xfrm flipV="1">
                <a:off x="8928000" y="2787480"/>
                <a:ext cx="254160" cy="80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95" name="Line 7"/>
              <p:cNvSpPr/>
              <p:nvPr/>
            </p:nvSpPr>
            <p:spPr>
              <a:xfrm flipH="1" flipV="1">
                <a:off x="9276840" y="2774520"/>
                <a:ext cx="368280" cy="81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96" name="Line 8"/>
              <p:cNvSpPr/>
              <p:nvPr/>
            </p:nvSpPr>
            <p:spPr>
              <a:xfrm flipH="1" flipV="1">
                <a:off x="9340920" y="2724120"/>
                <a:ext cx="1079280" cy="9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97" name="Line 9"/>
              <p:cNvSpPr/>
              <p:nvPr/>
            </p:nvSpPr>
            <p:spPr>
              <a:xfrm flipV="1">
                <a:off x="7460280" y="3873600"/>
                <a:ext cx="46692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98" name="Line 10"/>
              <p:cNvSpPr/>
              <p:nvPr/>
            </p:nvSpPr>
            <p:spPr>
              <a:xfrm flipH="1" flipV="1">
                <a:off x="8102520" y="3873600"/>
                <a:ext cx="32400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99" name="Line 11"/>
              <p:cNvSpPr/>
              <p:nvPr/>
            </p:nvSpPr>
            <p:spPr>
              <a:xfrm flipV="1">
                <a:off x="7441560" y="5454720"/>
                <a:ext cx="361800" cy="45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0" name="Line 12"/>
              <p:cNvSpPr/>
              <p:nvPr/>
            </p:nvSpPr>
            <p:spPr>
              <a:xfrm flipH="1" flipV="1">
                <a:off x="7962840" y="5460480"/>
                <a:ext cx="28584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1" name="Line 13"/>
              <p:cNvSpPr/>
              <p:nvPr/>
            </p:nvSpPr>
            <p:spPr>
              <a:xfrm flipV="1">
                <a:off x="9302760" y="3879720"/>
                <a:ext cx="342720" cy="5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2" name="Line 14"/>
              <p:cNvSpPr/>
              <p:nvPr/>
            </p:nvSpPr>
            <p:spPr>
              <a:xfrm flipV="1">
                <a:off x="8946360" y="4711320"/>
                <a:ext cx="222120" cy="46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3" name="Line 15"/>
              <p:cNvSpPr/>
              <p:nvPr/>
            </p:nvSpPr>
            <p:spPr>
              <a:xfrm flipH="1" flipV="1">
                <a:off x="8953560" y="5448240"/>
                <a:ext cx="20304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4" name="Line 16"/>
              <p:cNvSpPr/>
              <p:nvPr/>
            </p:nvSpPr>
            <p:spPr>
              <a:xfrm flipH="1" flipV="1">
                <a:off x="9308520" y="4699080"/>
                <a:ext cx="311400" cy="48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5" name="Line 17"/>
              <p:cNvSpPr/>
              <p:nvPr/>
            </p:nvSpPr>
            <p:spPr>
              <a:xfrm flipH="1" flipV="1">
                <a:off x="9734040" y="3886200"/>
                <a:ext cx="63720" cy="52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6" name="Line 18"/>
              <p:cNvSpPr/>
              <p:nvPr/>
            </p:nvSpPr>
            <p:spPr>
              <a:xfrm flipV="1">
                <a:off x="10445760" y="3898440"/>
                <a:ext cx="63360" cy="52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7" name="Line 19"/>
              <p:cNvSpPr/>
              <p:nvPr/>
            </p:nvSpPr>
            <p:spPr>
              <a:xfrm flipH="1" flipV="1">
                <a:off x="10636200" y="3871800"/>
                <a:ext cx="419040" cy="566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8" name="Line 20"/>
              <p:cNvSpPr/>
              <p:nvPr/>
            </p:nvSpPr>
            <p:spPr>
              <a:xfrm flipV="1">
                <a:off x="10292400" y="4711680"/>
                <a:ext cx="101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9" name="Line 21"/>
              <p:cNvSpPr/>
              <p:nvPr/>
            </p:nvSpPr>
            <p:spPr>
              <a:xfrm flipV="1">
                <a:off x="10895760" y="4705200"/>
                <a:ext cx="190440" cy="47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0" name="Line 22"/>
              <p:cNvSpPr/>
              <p:nvPr/>
            </p:nvSpPr>
            <p:spPr>
              <a:xfrm flipH="1" flipV="1">
                <a:off x="11201040" y="4698720"/>
                <a:ext cx="190440" cy="47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1" name="Line 23"/>
              <p:cNvSpPr/>
              <p:nvPr/>
            </p:nvSpPr>
            <p:spPr>
              <a:xfrm flipV="1">
                <a:off x="10356840" y="5441400"/>
                <a:ext cx="387360" cy="41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2" name="Line 24"/>
              <p:cNvSpPr/>
              <p:nvPr/>
            </p:nvSpPr>
            <p:spPr>
              <a:xfrm flipV="1">
                <a:off x="10839240" y="5467320"/>
                <a:ext cx="0" cy="35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3" name="Line 25"/>
              <p:cNvSpPr/>
              <p:nvPr/>
            </p:nvSpPr>
            <p:spPr>
              <a:xfrm flipH="1" flipV="1">
                <a:off x="10941120" y="5422680"/>
                <a:ext cx="406080" cy="43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4" name="Oval 26"/>
              <p:cNvSpPr/>
              <p:nvPr/>
            </p:nvSpPr>
            <p:spPr>
              <a:xfrm>
                <a:off x="9067680" y="247644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5" name="Oval 27"/>
              <p:cNvSpPr/>
              <p:nvPr/>
            </p:nvSpPr>
            <p:spPr>
              <a:xfrm>
                <a:off x="7861320" y="3581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6" name="Oval 28"/>
              <p:cNvSpPr/>
              <p:nvPr/>
            </p:nvSpPr>
            <p:spPr>
              <a:xfrm>
                <a:off x="8724960" y="3581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7" name="Oval 29"/>
              <p:cNvSpPr/>
              <p:nvPr/>
            </p:nvSpPr>
            <p:spPr>
              <a:xfrm>
                <a:off x="9550440" y="3581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8" name="Oval 30"/>
              <p:cNvSpPr/>
              <p:nvPr/>
            </p:nvSpPr>
            <p:spPr>
              <a:xfrm>
                <a:off x="10375920" y="3581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9" name="Oval 31"/>
              <p:cNvSpPr/>
              <p:nvPr/>
            </p:nvSpPr>
            <p:spPr>
              <a:xfrm>
                <a:off x="7188120" y="436860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0" name="Oval 32"/>
              <p:cNvSpPr/>
              <p:nvPr/>
            </p:nvSpPr>
            <p:spPr>
              <a:xfrm>
                <a:off x="7721640" y="5156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1" name="Oval 33"/>
              <p:cNvSpPr/>
              <p:nvPr/>
            </p:nvSpPr>
            <p:spPr>
              <a:xfrm>
                <a:off x="8191440" y="58798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2" name="Oval 34"/>
              <p:cNvSpPr/>
              <p:nvPr/>
            </p:nvSpPr>
            <p:spPr>
              <a:xfrm>
                <a:off x="7188120" y="58798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3" name="Oval 35"/>
              <p:cNvSpPr/>
              <p:nvPr/>
            </p:nvSpPr>
            <p:spPr>
              <a:xfrm>
                <a:off x="8343720" y="436860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4" name="Oval 36"/>
              <p:cNvSpPr/>
              <p:nvPr/>
            </p:nvSpPr>
            <p:spPr>
              <a:xfrm>
                <a:off x="9067680" y="440676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5" name="Oval 37"/>
              <p:cNvSpPr/>
              <p:nvPr/>
            </p:nvSpPr>
            <p:spPr>
              <a:xfrm>
                <a:off x="8724960" y="5156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6" name="Oval 38"/>
              <p:cNvSpPr/>
              <p:nvPr/>
            </p:nvSpPr>
            <p:spPr>
              <a:xfrm>
                <a:off x="9067680" y="58420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7" name="Oval 39"/>
              <p:cNvSpPr/>
              <p:nvPr/>
            </p:nvSpPr>
            <p:spPr>
              <a:xfrm>
                <a:off x="9550440" y="5156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8" name="Oval 40"/>
              <p:cNvSpPr/>
              <p:nvPr/>
            </p:nvSpPr>
            <p:spPr>
              <a:xfrm>
                <a:off x="9664560" y="440676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9" name="Oval 41"/>
              <p:cNvSpPr/>
              <p:nvPr/>
            </p:nvSpPr>
            <p:spPr>
              <a:xfrm>
                <a:off x="10261440" y="440676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0" name="Oval 42"/>
              <p:cNvSpPr/>
              <p:nvPr/>
            </p:nvSpPr>
            <p:spPr>
              <a:xfrm>
                <a:off x="10985400" y="440676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1" name="Oval 43"/>
              <p:cNvSpPr/>
              <p:nvPr/>
            </p:nvSpPr>
            <p:spPr>
              <a:xfrm>
                <a:off x="10083600" y="5156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2" name="Oval 44"/>
              <p:cNvSpPr/>
              <p:nvPr/>
            </p:nvSpPr>
            <p:spPr>
              <a:xfrm>
                <a:off x="10680480" y="5156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3" name="Oval 45"/>
              <p:cNvSpPr/>
              <p:nvPr/>
            </p:nvSpPr>
            <p:spPr>
              <a:xfrm>
                <a:off x="11290320" y="5156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4" name="Oval 46"/>
              <p:cNvSpPr/>
              <p:nvPr/>
            </p:nvSpPr>
            <p:spPr>
              <a:xfrm>
                <a:off x="10096560" y="582912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5" name="Oval 47"/>
              <p:cNvSpPr/>
              <p:nvPr/>
            </p:nvSpPr>
            <p:spPr>
              <a:xfrm>
                <a:off x="10680480" y="582912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6" name="Oval 48"/>
              <p:cNvSpPr/>
              <p:nvPr/>
            </p:nvSpPr>
            <p:spPr>
              <a:xfrm>
                <a:off x="11302920" y="582912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7" name="Line 49"/>
              <p:cNvSpPr/>
              <p:nvPr/>
            </p:nvSpPr>
            <p:spPr>
              <a:xfrm flipV="1">
                <a:off x="7896960" y="3903120"/>
                <a:ext cx="120600" cy="126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438" name="Rectangle 50"/>
            <p:cNvSpPr/>
            <p:nvPr/>
          </p:nvSpPr>
          <p:spPr>
            <a:xfrm>
              <a:off x="6959520" y="6838920"/>
              <a:ext cx="48895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MS PGothic"/>
                </a:rPr>
                <a:t>Find blue nodes and do something on each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Generator vs Stateful Function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888840" indent="-48708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-40464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nguage-level construct that keeps runtime state of a function across invocatio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-40464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ses simple instructions with clear semantic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778040" indent="-3240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 brea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78040" indent="-3240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 retu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8840" indent="-48708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ful Function, i.e. clos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-40464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st be implemented by user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-40464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quires complex control structur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888840" indent="-48708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itor Patter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Yield Operator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le in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40464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#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40464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40464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40464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ub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al case of closure (or continuation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Example: Tree Traversal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74880" y="2415960"/>
            <a:ext cx="5814720" cy="687708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635040" indent="-507960">
              <a:spcBef>
                <a:spcPts val="9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e is a very common data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5040" indent="-507960">
              <a:spcBef>
                <a:spcPts val="24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lot of application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50796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50796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ategor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50796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5040" indent="-507960">
              <a:spcBef>
                <a:spcPts val="24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and process data contained in a certain of tree no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6959520" y="2476440"/>
            <a:ext cx="4889520" cy="5175360"/>
            <a:chOff x="6959520" y="2476440"/>
            <a:chExt cx="4889520" cy="5175360"/>
          </a:xfrm>
        </p:grpSpPr>
        <p:grpSp>
          <p:nvGrpSpPr>
            <p:cNvPr id="140" name="Group 4"/>
            <p:cNvGrpSpPr/>
            <p:nvPr/>
          </p:nvGrpSpPr>
          <p:grpSpPr>
            <a:xfrm>
              <a:off x="7188120" y="2476440"/>
              <a:ext cx="4432320" cy="3720960"/>
              <a:chOff x="7188120" y="2476440"/>
              <a:chExt cx="4432320" cy="3720960"/>
            </a:xfrm>
          </p:grpSpPr>
          <p:sp>
            <p:nvSpPr>
              <p:cNvPr id="141" name="Line 5"/>
              <p:cNvSpPr/>
              <p:nvPr/>
            </p:nvSpPr>
            <p:spPr>
              <a:xfrm flipV="1">
                <a:off x="8134200" y="2730600"/>
                <a:ext cx="984240" cy="90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2" name="Line 6"/>
              <p:cNvSpPr/>
              <p:nvPr/>
            </p:nvSpPr>
            <p:spPr>
              <a:xfrm flipV="1">
                <a:off x="8928000" y="2787480"/>
                <a:ext cx="254160" cy="80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3" name="Line 7"/>
              <p:cNvSpPr/>
              <p:nvPr/>
            </p:nvSpPr>
            <p:spPr>
              <a:xfrm flipH="1" flipV="1">
                <a:off x="9276840" y="2774520"/>
                <a:ext cx="368280" cy="81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4" name="Line 8"/>
              <p:cNvSpPr/>
              <p:nvPr/>
            </p:nvSpPr>
            <p:spPr>
              <a:xfrm flipH="1" flipV="1">
                <a:off x="9340920" y="2724120"/>
                <a:ext cx="1079280" cy="9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5" name="Line 9"/>
              <p:cNvSpPr/>
              <p:nvPr/>
            </p:nvSpPr>
            <p:spPr>
              <a:xfrm flipV="1">
                <a:off x="7460280" y="3873600"/>
                <a:ext cx="46692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6" name="Line 10"/>
              <p:cNvSpPr/>
              <p:nvPr/>
            </p:nvSpPr>
            <p:spPr>
              <a:xfrm flipH="1" flipV="1">
                <a:off x="8102520" y="3873600"/>
                <a:ext cx="32400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7" name="Line 11"/>
              <p:cNvSpPr/>
              <p:nvPr/>
            </p:nvSpPr>
            <p:spPr>
              <a:xfrm flipV="1">
                <a:off x="7441560" y="5454720"/>
                <a:ext cx="361800" cy="45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8" name="Line 12"/>
              <p:cNvSpPr/>
              <p:nvPr/>
            </p:nvSpPr>
            <p:spPr>
              <a:xfrm flipH="1" flipV="1">
                <a:off x="7962840" y="5460480"/>
                <a:ext cx="28584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9" name="Line 13"/>
              <p:cNvSpPr/>
              <p:nvPr/>
            </p:nvSpPr>
            <p:spPr>
              <a:xfrm flipV="1">
                <a:off x="9302760" y="3879720"/>
                <a:ext cx="342720" cy="5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50" name="Line 14"/>
              <p:cNvSpPr/>
              <p:nvPr/>
            </p:nvSpPr>
            <p:spPr>
              <a:xfrm flipV="1">
                <a:off x="8946360" y="4711320"/>
                <a:ext cx="222120" cy="46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51" name="Line 15"/>
              <p:cNvSpPr/>
              <p:nvPr/>
            </p:nvSpPr>
            <p:spPr>
              <a:xfrm flipH="1" flipV="1">
                <a:off x="8953560" y="5448240"/>
                <a:ext cx="20304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52" name="Line 16"/>
              <p:cNvSpPr/>
              <p:nvPr/>
            </p:nvSpPr>
            <p:spPr>
              <a:xfrm flipH="1" flipV="1">
                <a:off x="9308520" y="4699080"/>
                <a:ext cx="311400" cy="48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53" name="Line 17"/>
              <p:cNvSpPr/>
              <p:nvPr/>
            </p:nvSpPr>
            <p:spPr>
              <a:xfrm flipH="1" flipV="1">
                <a:off x="9734040" y="3886200"/>
                <a:ext cx="63720" cy="52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54" name="Line 18"/>
              <p:cNvSpPr/>
              <p:nvPr/>
            </p:nvSpPr>
            <p:spPr>
              <a:xfrm flipV="1">
                <a:off x="10445760" y="3898440"/>
                <a:ext cx="63360" cy="52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55" name="Line 19"/>
              <p:cNvSpPr/>
              <p:nvPr/>
            </p:nvSpPr>
            <p:spPr>
              <a:xfrm flipH="1" flipV="1">
                <a:off x="10636200" y="3871800"/>
                <a:ext cx="419040" cy="566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56" name="Line 20"/>
              <p:cNvSpPr/>
              <p:nvPr/>
            </p:nvSpPr>
            <p:spPr>
              <a:xfrm flipV="1">
                <a:off x="10292400" y="4711680"/>
                <a:ext cx="101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57" name="Line 21"/>
              <p:cNvSpPr/>
              <p:nvPr/>
            </p:nvSpPr>
            <p:spPr>
              <a:xfrm flipV="1">
                <a:off x="10895760" y="4705200"/>
                <a:ext cx="190440" cy="47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58" name="Line 22"/>
              <p:cNvSpPr/>
              <p:nvPr/>
            </p:nvSpPr>
            <p:spPr>
              <a:xfrm flipH="1" flipV="1">
                <a:off x="11201040" y="4698720"/>
                <a:ext cx="190440" cy="47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59" name="Line 23"/>
              <p:cNvSpPr/>
              <p:nvPr/>
            </p:nvSpPr>
            <p:spPr>
              <a:xfrm flipV="1">
                <a:off x="10356840" y="5441400"/>
                <a:ext cx="387360" cy="41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0" name="Line 24"/>
              <p:cNvSpPr/>
              <p:nvPr/>
            </p:nvSpPr>
            <p:spPr>
              <a:xfrm flipV="1">
                <a:off x="10839240" y="5467320"/>
                <a:ext cx="0" cy="35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1" name="Line 25"/>
              <p:cNvSpPr/>
              <p:nvPr/>
            </p:nvSpPr>
            <p:spPr>
              <a:xfrm flipH="1" flipV="1">
                <a:off x="10941120" y="5422680"/>
                <a:ext cx="406080" cy="43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2" name="Oval 26"/>
              <p:cNvSpPr/>
              <p:nvPr/>
            </p:nvSpPr>
            <p:spPr>
              <a:xfrm>
                <a:off x="9067680" y="247644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3" name="Oval 27"/>
              <p:cNvSpPr/>
              <p:nvPr/>
            </p:nvSpPr>
            <p:spPr>
              <a:xfrm>
                <a:off x="7861320" y="3581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4" name="Oval 28"/>
              <p:cNvSpPr/>
              <p:nvPr/>
            </p:nvSpPr>
            <p:spPr>
              <a:xfrm>
                <a:off x="8724960" y="3581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5" name="Oval 29"/>
              <p:cNvSpPr/>
              <p:nvPr/>
            </p:nvSpPr>
            <p:spPr>
              <a:xfrm>
                <a:off x="9550440" y="3581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6" name="Oval 30"/>
              <p:cNvSpPr/>
              <p:nvPr/>
            </p:nvSpPr>
            <p:spPr>
              <a:xfrm>
                <a:off x="10375920" y="3581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7" name="Oval 31"/>
              <p:cNvSpPr/>
              <p:nvPr/>
            </p:nvSpPr>
            <p:spPr>
              <a:xfrm>
                <a:off x="7188120" y="436860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8" name="Oval 32"/>
              <p:cNvSpPr/>
              <p:nvPr/>
            </p:nvSpPr>
            <p:spPr>
              <a:xfrm>
                <a:off x="7721640" y="5156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9" name="Oval 33"/>
              <p:cNvSpPr/>
              <p:nvPr/>
            </p:nvSpPr>
            <p:spPr>
              <a:xfrm>
                <a:off x="8191440" y="58798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0" name="Oval 34"/>
              <p:cNvSpPr/>
              <p:nvPr/>
            </p:nvSpPr>
            <p:spPr>
              <a:xfrm>
                <a:off x="7188120" y="58798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1" name="Oval 35"/>
              <p:cNvSpPr/>
              <p:nvPr/>
            </p:nvSpPr>
            <p:spPr>
              <a:xfrm>
                <a:off x="8343720" y="436860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2" name="Oval 36"/>
              <p:cNvSpPr/>
              <p:nvPr/>
            </p:nvSpPr>
            <p:spPr>
              <a:xfrm>
                <a:off x="9067680" y="440676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3" name="Oval 37"/>
              <p:cNvSpPr/>
              <p:nvPr/>
            </p:nvSpPr>
            <p:spPr>
              <a:xfrm>
                <a:off x="8724960" y="5156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4" name="Oval 38"/>
              <p:cNvSpPr/>
              <p:nvPr/>
            </p:nvSpPr>
            <p:spPr>
              <a:xfrm>
                <a:off x="9067680" y="58420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5" name="Oval 39"/>
              <p:cNvSpPr/>
              <p:nvPr/>
            </p:nvSpPr>
            <p:spPr>
              <a:xfrm>
                <a:off x="9550440" y="5156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6" name="Oval 40"/>
              <p:cNvSpPr/>
              <p:nvPr/>
            </p:nvSpPr>
            <p:spPr>
              <a:xfrm>
                <a:off x="9664560" y="440676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7" name="Oval 41"/>
              <p:cNvSpPr/>
              <p:nvPr/>
            </p:nvSpPr>
            <p:spPr>
              <a:xfrm>
                <a:off x="10261440" y="440676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8" name="Oval 42"/>
              <p:cNvSpPr/>
              <p:nvPr/>
            </p:nvSpPr>
            <p:spPr>
              <a:xfrm>
                <a:off x="10985400" y="440676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9" name="Oval 43"/>
              <p:cNvSpPr/>
              <p:nvPr/>
            </p:nvSpPr>
            <p:spPr>
              <a:xfrm>
                <a:off x="10083600" y="5156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0" name="Oval 44"/>
              <p:cNvSpPr/>
              <p:nvPr/>
            </p:nvSpPr>
            <p:spPr>
              <a:xfrm>
                <a:off x="10680480" y="5156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1" name="Oval 45"/>
              <p:cNvSpPr/>
              <p:nvPr/>
            </p:nvSpPr>
            <p:spPr>
              <a:xfrm>
                <a:off x="11290320" y="5156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2" name="Oval 46"/>
              <p:cNvSpPr/>
              <p:nvPr/>
            </p:nvSpPr>
            <p:spPr>
              <a:xfrm>
                <a:off x="10096560" y="582912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3" name="Oval 47"/>
              <p:cNvSpPr/>
              <p:nvPr/>
            </p:nvSpPr>
            <p:spPr>
              <a:xfrm>
                <a:off x="10680480" y="582912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4" name="Oval 48"/>
              <p:cNvSpPr/>
              <p:nvPr/>
            </p:nvSpPr>
            <p:spPr>
              <a:xfrm>
                <a:off x="11302920" y="582912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5" name="Line 49"/>
              <p:cNvSpPr/>
              <p:nvPr/>
            </p:nvSpPr>
            <p:spPr>
              <a:xfrm flipV="1">
                <a:off x="7896960" y="3903120"/>
                <a:ext cx="120600" cy="126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86" name="Rectangle 50"/>
            <p:cNvSpPr/>
            <p:nvPr/>
          </p:nvSpPr>
          <p:spPr>
            <a:xfrm>
              <a:off x="6959520" y="6838920"/>
              <a:ext cx="48895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MS PGothic"/>
                </a:rPr>
                <a:t>Find blue nodes and do something with the information stored in them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87" name="TextBox 1"/>
          <p:cNvSpPr/>
          <p:nvPr/>
        </p:nvSpPr>
        <p:spPr>
          <a:xfrm>
            <a:off x="2009880" y="93250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lide by Hayouan L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Infinite Sequence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def fib():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first = 0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second = 1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yield first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yield second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while True: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next = first + second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yield next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first = second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second = next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for n in fib():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Lucida Sans Typewriter"/>
              </a:rPr>
              <a:t>print n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Compiler turn into a closure-like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def fib()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first = [0]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second = [1]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def next()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res = first[0] + second[0]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first[0] = second[0]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second[0] = r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return r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return ne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Tree Visit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class Node()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def __init__(self, label)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self.label = lab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self.left = No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self.right = No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Hand coded iterator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974880" y="1852200"/>
            <a:ext cx="12029760" cy="744084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lass Node(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ef __iter__(self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return TreeIterator(self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lass TreeIterator(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ef __init__(self, node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lf.stack = [node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# state can be either: 'goLeft', 'visit', 'goRight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lf.state = 'goLeft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Iteration method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974880" y="1708200"/>
            <a:ext cx="11936160" cy="7848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def next(self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while self.stac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node = self.stack[-1]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# stack 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if self.state == 'goLeft'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if node.lef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self.stack.append(node.lef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els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self.state = 'visit'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elif self.state == 'visit'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self.state = </a:t>
            </a:r>
            <a:r>
              <a:rPr b="0" lang="ja-JP" sz="2000" spc="-1" strike="noStrike">
                <a:solidFill>
                  <a:srgbClr val="000000"/>
                </a:solidFill>
                <a:latin typeface="Lucida Sans Typewriter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goRight</a:t>
            </a:r>
            <a:r>
              <a:rPr b="0" lang="ja-JP" sz="2000" spc="-1" strike="noStrike">
                <a:solidFill>
                  <a:srgbClr val="000000"/>
                </a:solidFill>
                <a:latin typeface="Lucida Sans Typewriter"/>
              </a:rPr>
              <a:t>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return node.la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elif self.state == 'goRight'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self.stack.pop()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# its visit is compl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if node.righ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self.state = 'goLeft'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self.stack.append(node.righ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els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self.state = 'visit</a:t>
            </a:r>
            <a:r>
              <a:rPr b="0" lang="ja-JP" sz="2000" spc="-1" strike="noStrike">
                <a:solidFill>
                  <a:srgbClr val="000000"/>
                </a:solidFill>
                <a:latin typeface="Lucida Sans Typewriter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 # no fully visited nodes are on the st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self.stack.pop(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Typewriter"/>
              </a:rPr>
              <a:t>raise StopIt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Testing the iterator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700" spc="-1" strike="noStrike">
                <a:solidFill>
                  <a:srgbClr val="000000"/>
                </a:solidFill>
                <a:latin typeface="Lucida Sans Typewriter"/>
              </a:rPr>
              <a:t>n0 = Node(0); n1 = Node(1); n2 = Node(2)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700" spc="-1" strike="noStrike">
                <a:solidFill>
                  <a:srgbClr val="000000"/>
                </a:solidFill>
                <a:latin typeface="Lucida Sans Typewriter"/>
              </a:rPr>
              <a:t>n3 = Node(3); n4 = Node(4); n5 = Node(5)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700" spc="-1" strike="noStrike">
                <a:solidFill>
                  <a:srgbClr val="000000"/>
                </a:solidFill>
                <a:latin typeface="Lucida Sans Typewriter"/>
              </a:rPr>
              <a:t>n0.left = n1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700" spc="-1" strike="noStrike">
                <a:solidFill>
                  <a:srgbClr val="000000"/>
                </a:solidFill>
                <a:latin typeface="Lucida Sans Typewriter"/>
              </a:rPr>
              <a:t>n0.right = n2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700" spc="-1" strike="noStrike">
                <a:solidFill>
                  <a:srgbClr val="000000"/>
                </a:solidFill>
                <a:latin typeface="Lucida Sans Typewriter"/>
              </a:rPr>
              <a:t>n1.left = n3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700" spc="-1" strike="noStrike">
                <a:solidFill>
                  <a:srgbClr val="000000"/>
                </a:solidFill>
                <a:latin typeface="Lucida Sans Typewriter"/>
              </a:rPr>
              <a:t>n1.right = n4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700" spc="-1" strike="noStrike">
                <a:solidFill>
                  <a:srgbClr val="000000"/>
                </a:solidFill>
                <a:latin typeface="Lucida Sans Typewriter"/>
              </a:rPr>
              <a:t>n2.left = n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700" spc="-1" strike="noStrike">
                <a:solidFill>
                  <a:srgbClr val="000000"/>
                </a:solidFill>
                <a:latin typeface="Lucida Sans Typewriter"/>
              </a:rPr>
              <a:t>for n in n0: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7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pt-BR" sz="3700" spc="-1" strike="noStrike">
                <a:solidFill>
                  <a:srgbClr val="000000"/>
                </a:solidFill>
                <a:latin typeface="Lucida Sans Typewriter"/>
              </a:rPr>
              <a:t>print n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Diagram 3" descr=""/>
          <p:cNvPicPr/>
          <p:nvPr/>
        </p:nvPicPr>
        <p:blipFill>
          <a:blip r:embed="rId1"/>
          <a:stretch/>
        </p:blipFill>
        <p:spPr>
          <a:xfrm>
            <a:off x="6242040" y="4084560"/>
            <a:ext cx="42181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Expansion of the for loop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it = n0.__iter__(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try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while True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v = it.next(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print 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catch StopIteration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continu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Inorder Visit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def inorder(t)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if t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for x in inorder(t.left)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yield 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yield t.lab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for x in inorder(t.right)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Sans Typewriter"/>
              </a:rPr>
              <a:t>yield 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Tree insertion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class Node(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ef __init__(self, label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lf.label = lab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lf.left = N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lf.right = N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def insert(self, val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if self.label &lt; val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if self.righ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lf.right.insert(va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els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lf.right = Node(va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elif self.lef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lf.left.insert(va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els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Typewriter"/>
              </a:rPr>
              <a:t>self.left = Node(va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Test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 = Node(0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i in [2, 1, -2, -1, 3]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.insert(i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v in inorder(r)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t 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2 -1 0 1 2 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All-In-One Solution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74520" y="2415960"/>
            <a:ext cx="6032520" cy="687708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127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reuse problem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Blue(Node n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f (n.color == Blu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Read(n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for (Node child: n.children()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ReadBlue(chil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7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Blue(Node n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f (n.color == Blu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Write(n, what_ever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(Node child: n.children()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WriteBlue(chil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Blue(Node n) {...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tyBlue(Node n) {...}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6959520" y="2476440"/>
            <a:ext cx="4889520" cy="5175360"/>
            <a:chOff x="6959520" y="2476440"/>
            <a:chExt cx="4889520" cy="5175360"/>
          </a:xfrm>
        </p:grpSpPr>
        <p:grpSp>
          <p:nvGrpSpPr>
            <p:cNvPr id="191" name="Group 4"/>
            <p:cNvGrpSpPr/>
            <p:nvPr/>
          </p:nvGrpSpPr>
          <p:grpSpPr>
            <a:xfrm>
              <a:off x="7188120" y="2476440"/>
              <a:ext cx="4432320" cy="3720960"/>
              <a:chOff x="7188120" y="2476440"/>
              <a:chExt cx="4432320" cy="3720960"/>
            </a:xfrm>
          </p:grpSpPr>
          <p:sp>
            <p:nvSpPr>
              <p:cNvPr id="192" name="Line 5"/>
              <p:cNvSpPr/>
              <p:nvPr/>
            </p:nvSpPr>
            <p:spPr>
              <a:xfrm flipV="1">
                <a:off x="8134200" y="2730600"/>
                <a:ext cx="984240" cy="90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3" name="Line 6"/>
              <p:cNvSpPr/>
              <p:nvPr/>
            </p:nvSpPr>
            <p:spPr>
              <a:xfrm flipV="1">
                <a:off x="8928000" y="2787480"/>
                <a:ext cx="254160" cy="80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4" name="Line 7"/>
              <p:cNvSpPr/>
              <p:nvPr/>
            </p:nvSpPr>
            <p:spPr>
              <a:xfrm flipH="1" flipV="1">
                <a:off x="9276840" y="2774520"/>
                <a:ext cx="368280" cy="81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5" name="Line 8"/>
              <p:cNvSpPr/>
              <p:nvPr/>
            </p:nvSpPr>
            <p:spPr>
              <a:xfrm flipH="1" flipV="1">
                <a:off x="9340920" y="2724120"/>
                <a:ext cx="1079280" cy="9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6" name="Line 9"/>
              <p:cNvSpPr/>
              <p:nvPr/>
            </p:nvSpPr>
            <p:spPr>
              <a:xfrm flipV="1">
                <a:off x="7460280" y="3873600"/>
                <a:ext cx="46692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7" name="Line 10"/>
              <p:cNvSpPr/>
              <p:nvPr/>
            </p:nvSpPr>
            <p:spPr>
              <a:xfrm flipH="1" flipV="1">
                <a:off x="8102520" y="3873600"/>
                <a:ext cx="32400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8" name="Line 11"/>
              <p:cNvSpPr/>
              <p:nvPr/>
            </p:nvSpPr>
            <p:spPr>
              <a:xfrm flipV="1">
                <a:off x="7441560" y="5454720"/>
                <a:ext cx="361800" cy="45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9" name="Line 12"/>
              <p:cNvSpPr/>
              <p:nvPr/>
            </p:nvSpPr>
            <p:spPr>
              <a:xfrm flipH="1" flipV="1">
                <a:off x="7962840" y="5460480"/>
                <a:ext cx="28584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00" name="Line 13"/>
              <p:cNvSpPr/>
              <p:nvPr/>
            </p:nvSpPr>
            <p:spPr>
              <a:xfrm flipV="1">
                <a:off x="9302760" y="3879720"/>
                <a:ext cx="342720" cy="5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01" name="Line 14"/>
              <p:cNvSpPr/>
              <p:nvPr/>
            </p:nvSpPr>
            <p:spPr>
              <a:xfrm flipV="1">
                <a:off x="8946360" y="4711320"/>
                <a:ext cx="222120" cy="46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02" name="Line 15"/>
              <p:cNvSpPr/>
              <p:nvPr/>
            </p:nvSpPr>
            <p:spPr>
              <a:xfrm flipH="1" flipV="1">
                <a:off x="8953560" y="5448240"/>
                <a:ext cx="20304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03" name="Line 16"/>
              <p:cNvSpPr/>
              <p:nvPr/>
            </p:nvSpPr>
            <p:spPr>
              <a:xfrm flipH="1" flipV="1">
                <a:off x="9308520" y="4699080"/>
                <a:ext cx="311400" cy="48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04" name="Line 17"/>
              <p:cNvSpPr/>
              <p:nvPr/>
            </p:nvSpPr>
            <p:spPr>
              <a:xfrm flipH="1" flipV="1">
                <a:off x="9734040" y="3886200"/>
                <a:ext cx="63720" cy="52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05" name="Line 18"/>
              <p:cNvSpPr/>
              <p:nvPr/>
            </p:nvSpPr>
            <p:spPr>
              <a:xfrm flipV="1">
                <a:off x="10445760" y="3898440"/>
                <a:ext cx="63360" cy="52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06" name="Line 19"/>
              <p:cNvSpPr/>
              <p:nvPr/>
            </p:nvSpPr>
            <p:spPr>
              <a:xfrm flipH="1" flipV="1">
                <a:off x="10636200" y="3871800"/>
                <a:ext cx="419040" cy="566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07" name="Line 20"/>
              <p:cNvSpPr/>
              <p:nvPr/>
            </p:nvSpPr>
            <p:spPr>
              <a:xfrm flipV="1">
                <a:off x="10292400" y="4711680"/>
                <a:ext cx="101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 flipV="1">
                <a:off x="10895760" y="4705200"/>
                <a:ext cx="190440" cy="47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 flipV="1">
                <a:off x="11201040" y="4698720"/>
                <a:ext cx="190440" cy="47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 flipV="1">
                <a:off x="10356840" y="5441400"/>
                <a:ext cx="387360" cy="41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V="1">
                <a:off x="10839240" y="5467320"/>
                <a:ext cx="0" cy="35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 flipH="1" flipV="1">
                <a:off x="10941120" y="5422680"/>
                <a:ext cx="406080" cy="43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3" name="Oval 26"/>
              <p:cNvSpPr/>
              <p:nvPr/>
            </p:nvSpPr>
            <p:spPr>
              <a:xfrm>
                <a:off x="9067680" y="247644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4" name="Oval 27"/>
              <p:cNvSpPr/>
              <p:nvPr/>
            </p:nvSpPr>
            <p:spPr>
              <a:xfrm>
                <a:off x="7861320" y="3581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5" name="Oval 28"/>
              <p:cNvSpPr/>
              <p:nvPr/>
            </p:nvSpPr>
            <p:spPr>
              <a:xfrm>
                <a:off x="8724960" y="3581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6" name="Oval 29"/>
              <p:cNvSpPr/>
              <p:nvPr/>
            </p:nvSpPr>
            <p:spPr>
              <a:xfrm>
                <a:off x="9550440" y="3581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7" name="Oval 30"/>
              <p:cNvSpPr/>
              <p:nvPr/>
            </p:nvSpPr>
            <p:spPr>
              <a:xfrm>
                <a:off x="10375920" y="3581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8" name="Oval 31"/>
              <p:cNvSpPr/>
              <p:nvPr/>
            </p:nvSpPr>
            <p:spPr>
              <a:xfrm>
                <a:off x="7188120" y="436860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9" name="Oval 32"/>
              <p:cNvSpPr/>
              <p:nvPr/>
            </p:nvSpPr>
            <p:spPr>
              <a:xfrm>
                <a:off x="7721640" y="5156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0" name="Oval 33"/>
              <p:cNvSpPr/>
              <p:nvPr/>
            </p:nvSpPr>
            <p:spPr>
              <a:xfrm>
                <a:off x="8191440" y="58798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1" name="Oval 34"/>
              <p:cNvSpPr/>
              <p:nvPr/>
            </p:nvSpPr>
            <p:spPr>
              <a:xfrm>
                <a:off x="7188120" y="58798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2" name="Oval 35"/>
              <p:cNvSpPr/>
              <p:nvPr/>
            </p:nvSpPr>
            <p:spPr>
              <a:xfrm>
                <a:off x="8343720" y="436860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3" name="Oval 36"/>
              <p:cNvSpPr/>
              <p:nvPr/>
            </p:nvSpPr>
            <p:spPr>
              <a:xfrm>
                <a:off x="9067680" y="440676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4" name="Oval 37"/>
              <p:cNvSpPr/>
              <p:nvPr/>
            </p:nvSpPr>
            <p:spPr>
              <a:xfrm>
                <a:off x="8724960" y="5156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5" name="Oval 38"/>
              <p:cNvSpPr/>
              <p:nvPr/>
            </p:nvSpPr>
            <p:spPr>
              <a:xfrm>
                <a:off x="9067680" y="58420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6" name="Oval 39"/>
              <p:cNvSpPr/>
              <p:nvPr/>
            </p:nvSpPr>
            <p:spPr>
              <a:xfrm>
                <a:off x="9550440" y="5156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7" name="Oval 40"/>
              <p:cNvSpPr/>
              <p:nvPr/>
            </p:nvSpPr>
            <p:spPr>
              <a:xfrm>
                <a:off x="9664560" y="440676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8" name="Oval 41"/>
              <p:cNvSpPr/>
              <p:nvPr/>
            </p:nvSpPr>
            <p:spPr>
              <a:xfrm>
                <a:off x="10261440" y="440676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9" name="Oval 42"/>
              <p:cNvSpPr/>
              <p:nvPr/>
            </p:nvSpPr>
            <p:spPr>
              <a:xfrm>
                <a:off x="10985400" y="440676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0" name="Oval 43"/>
              <p:cNvSpPr/>
              <p:nvPr/>
            </p:nvSpPr>
            <p:spPr>
              <a:xfrm>
                <a:off x="10083600" y="5156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1" name="Oval 44"/>
              <p:cNvSpPr/>
              <p:nvPr/>
            </p:nvSpPr>
            <p:spPr>
              <a:xfrm>
                <a:off x="10680480" y="5156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2" name="Oval 45"/>
              <p:cNvSpPr/>
              <p:nvPr/>
            </p:nvSpPr>
            <p:spPr>
              <a:xfrm>
                <a:off x="11290320" y="5156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3" name="Oval 46"/>
              <p:cNvSpPr/>
              <p:nvPr/>
            </p:nvSpPr>
            <p:spPr>
              <a:xfrm>
                <a:off x="10096560" y="582912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4" name="Oval 47"/>
              <p:cNvSpPr/>
              <p:nvPr/>
            </p:nvSpPr>
            <p:spPr>
              <a:xfrm>
                <a:off x="10680480" y="582912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5" name="Oval 48"/>
              <p:cNvSpPr/>
              <p:nvPr/>
            </p:nvSpPr>
            <p:spPr>
              <a:xfrm>
                <a:off x="11302920" y="582912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V="1">
                <a:off x="7896960" y="3903120"/>
                <a:ext cx="120600" cy="126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37" name="Rectangle 50"/>
            <p:cNvSpPr/>
            <p:nvPr/>
          </p:nvSpPr>
          <p:spPr>
            <a:xfrm>
              <a:off x="6959520" y="6838920"/>
              <a:ext cx="48895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MS PGothic"/>
                </a:rPr>
                <a:t>Find blue nodes and do something on each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38" name="TextBox 51"/>
          <p:cNvSpPr/>
          <p:nvPr/>
        </p:nvSpPr>
        <p:spPr>
          <a:xfrm>
            <a:off x="2009880" y="93250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lide by Hayouan L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Example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ourier New"/>
              </a:rPr>
              <a:t>def map(func, iterable):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3400" spc="-1" strike="noStrike">
                <a:solidFill>
                  <a:srgbClr val="333399"/>
                </a:solidFill>
                <a:latin typeface="Courier New"/>
              </a:rPr>
              <a:t>result = []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3400" spc="-1" strike="noStrike">
                <a:solidFill>
                  <a:srgbClr val="333399"/>
                </a:solidFill>
                <a:latin typeface="Courier New"/>
              </a:rPr>
              <a:t>for item in iterable: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3400" spc="-1" strike="noStrike">
                <a:solidFill>
                  <a:srgbClr val="333399"/>
                </a:solidFill>
                <a:latin typeface="Courier New"/>
              </a:rPr>
              <a:t>result.append(func(item)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3400" spc="-1" strike="noStrike">
                <a:solidFill>
                  <a:srgbClr val="333399"/>
                </a:solidFill>
                <a:latin typeface="Courier New"/>
              </a:rPr>
              <a:t>return resul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ourier New"/>
              </a:rPr>
              <a:t>def imap(func, iterable):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3400" spc="-1" strike="noStrike">
                <a:solidFill>
                  <a:srgbClr val="333399"/>
                </a:solidFill>
                <a:latin typeface="Courier New"/>
              </a:rPr>
              <a:t>for item in iterable: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3400" spc="-1" strike="noStrike">
                <a:solidFill>
                  <a:srgbClr val="333399"/>
                </a:solidFill>
                <a:latin typeface="Courier New"/>
              </a:rPr>
              <a:t>yield func(item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'yield' and 'try'/'finally'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ython does not allow 'yield' inside a 'try' block with a 'finally' clause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500" spc="-1" strike="noStrike">
                <a:solidFill>
                  <a:srgbClr val="333399"/>
                </a:solidFill>
                <a:latin typeface="Courier New"/>
              </a:rPr>
              <a:t>try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500" spc="-1" strike="noStrike">
                <a:solidFill>
                  <a:srgbClr val="333399"/>
                </a:solidFill>
                <a:latin typeface="Courier New"/>
              </a:rPr>
              <a:t>yield x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500" spc="-1" strike="noStrike">
                <a:solidFill>
                  <a:srgbClr val="333399"/>
                </a:solidFill>
                <a:latin typeface="Courier New"/>
              </a:rPr>
              <a:t>yield x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500" spc="-1" strike="noStrike">
                <a:solidFill>
                  <a:srgbClr val="333399"/>
                </a:solidFill>
                <a:latin typeface="Courier New"/>
              </a:rPr>
              <a:t>finally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500" spc="-1" strike="noStrike">
                <a:solidFill>
                  <a:srgbClr val="333399"/>
                </a:solidFill>
                <a:latin typeface="Courier New"/>
              </a:rPr>
              <a:t>print x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'yield' inside 'finally' or in 'try'/'except' is allow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With Function Objects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74520" y="2415960"/>
            <a:ext cx="6032520" cy="687708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Blue(Node n, func(Node n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f (n.color == Blu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func(n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for (Node child: n.children()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MapBlue(child, func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Node n) {...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Node n) { what_ever; ...}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Blue(root, Rea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Blue(root, Write);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6959520" y="2476440"/>
            <a:ext cx="4889520" cy="5175360"/>
            <a:chOff x="6959520" y="2476440"/>
            <a:chExt cx="4889520" cy="5175360"/>
          </a:xfrm>
        </p:grpSpPr>
        <p:grpSp>
          <p:nvGrpSpPr>
            <p:cNvPr id="242" name="Group 4"/>
            <p:cNvGrpSpPr/>
            <p:nvPr/>
          </p:nvGrpSpPr>
          <p:grpSpPr>
            <a:xfrm>
              <a:off x="7188120" y="2476440"/>
              <a:ext cx="4432320" cy="3720960"/>
              <a:chOff x="7188120" y="2476440"/>
              <a:chExt cx="4432320" cy="3720960"/>
            </a:xfrm>
          </p:grpSpPr>
          <p:sp>
            <p:nvSpPr>
              <p:cNvPr id="243" name="Line 5"/>
              <p:cNvSpPr/>
              <p:nvPr/>
            </p:nvSpPr>
            <p:spPr>
              <a:xfrm flipV="1">
                <a:off x="8134200" y="2730600"/>
                <a:ext cx="984240" cy="90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44" name="Line 6"/>
              <p:cNvSpPr/>
              <p:nvPr/>
            </p:nvSpPr>
            <p:spPr>
              <a:xfrm flipV="1">
                <a:off x="8928000" y="2787480"/>
                <a:ext cx="254160" cy="80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45" name="Line 7"/>
              <p:cNvSpPr/>
              <p:nvPr/>
            </p:nvSpPr>
            <p:spPr>
              <a:xfrm flipH="1" flipV="1">
                <a:off x="9276840" y="2774520"/>
                <a:ext cx="368280" cy="81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46" name="Line 8"/>
              <p:cNvSpPr/>
              <p:nvPr/>
            </p:nvSpPr>
            <p:spPr>
              <a:xfrm flipH="1" flipV="1">
                <a:off x="9340920" y="2724120"/>
                <a:ext cx="1079280" cy="9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47" name="Line 9"/>
              <p:cNvSpPr/>
              <p:nvPr/>
            </p:nvSpPr>
            <p:spPr>
              <a:xfrm flipV="1">
                <a:off x="7460280" y="3873600"/>
                <a:ext cx="46692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48" name="Line 10"/>
              <p:cNvSpPr/>
              <p:nvPr/>
            </p:nvSpPr>
            <p:spPr>
              <a:xfrm flipH="1" flipV="1">
                <a:off x="8102520" y="3873600"/>
                <a:ext cx="32400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49" name="Line 11"/>
              <p:cNvSpPr/>
              <p:nvPr/>
            </p:nvSpPr>
            <p:spPr>
              <a:xfrm flipV="1">
                <a:off x="7441560" y="5454720"/>
                <a:ext cx="361800" cy="45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0" name="Line 12"/>
              <p:cNvSpPr/>
              <p:nvPr/>
            </p:nvSpPr>
            <p:spPr>
              <a:xfrm flipH="1" flipV="1">
                <a:off x="7962840" y="5460480"/>
                <a:ext cx="28584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1" name="Line 13"/>
              <p:cNvSpPr/>
              <p:nvPr/>
            </p:nvSpPr>
            <p:spPr>
              <a:xfrm flipV="1">
                <a:off x="9302760" y="3879720"/>
                <a:ext cx="342720" cy="5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2" name="Line 14"/>
              <p:cNvSpPr/>
              <p:nvPr/>
            </p:nvSpPr>
            <p:spPr>
              <a:xfrm flipV="1">
                <a:off x="8946360" y="4711320"/>
                <a:ext cx="222120" cy="46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3" name="Line 15"/>
              <p:cNvSpPr/>
              <p:nvPr/>
            </p:nvSpPr>
            <p:spPr>
              <a:xfrm flipH="1" flipV="1">
                <a:off x="8953560" y="5448240"/>
                <a:ext cx="20304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4" name="Line 16"/>
              <p:cNvSpPr/>
              <p:nvPr/>
            </p:nvSpPr>
            <p:spPr>
              <a:xfrm flipH="1" flipV="1">
                <a:off x="9308520" y="4699080"/>
                <a:ext cx="311400" cy="48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5" name="Line 17"/>
              <p:cNvSpPr/>
              <p:nvPr/>
            </p:nvSpPr>
            <p:spPr>
              <a:xfrm flipH="1" flipV="1">
                <a:off x="9734040" y="3886200"/>
                <a:ext cx="63720" cy="52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6" name="Line 18"/>
              <p:cNvSpPr/>
              <p:nvPr/>
            </p:nvSpPr>
            <p:spPr>
              <a:xfrm flipV="1">
                <a:off x="10445760" y="3898440"/>
                <a:ext cx="63360" cy="52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7" name="Line 19"/>
              <p:cNvSpPr/>
              <p:nvPr/>
            </p:nvSpPr>
            <p:spPr>
              <a:xfrm flipH="1" flipV="1">
                <a:off x="10636200" y="3871800"/>
                <a:ext cx="419040" cy="566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8" name="Line 20"/>
              <p:cNvSpPr/>
              <p:nvPr/>
            </p:nvSpPr>
            <p:spPr>
              <a:xfrm flipV="1">
                <a:off x="10292400" y="4711680"/>
                <a:ext cx="101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9" name="Line 21"/>
              <p:cNvSpPr/>
              <p:nvPr/>
            </p:nvSpPr>
            <p:spPr>
              <a:xfrm flipV="1">
                <a:off x="10895760" y="4705200"/>
                <a:ext cx="190440" cy="47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0" name="Line 22"/>
              <p:cNvSpPr/>
              <p:nvPr/>
            </p:nvSpPr>
            <p:spPr>
              <a:xfrm flipH="1" flipV="1">
                <a:off x="11201040" y="4698720"/>
                <a:ext cx="190440" cy="47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1" name="Line 23"/>
              <p:cNvSpPr/>
              <p:nvPr/>
            </p:nvSpPr>
            <p:spPr>
              <a:xfrm flipV="1">
                <a:off x="10356840" y="5441400"/>
                <a:ext cx="387360" cy="41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2" name="Line 24"/>
              <p:cNvSpPr/>
              <p:nvPr/>
            </p:nvSpPr>
            <p:spPr>
              <a:xfrm flipV="1">
                <a:off x="10839240" y="5467320"/>
                <a:ext cx="0" cy="35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3" name="Line 25"/>
              <p:cNvSpPr/>
              <p:nvPr/>
            </p:nvSpPr>
            <p:spPr>
              <a:xfrm flipH="1" flipV="1">
                <a:off x="10941120" y="5422680"/>
                <a:ext cx="406080" cy="43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4" name="Oval 26"/>
              <p:cNvSpPr/>
              <p:nvPr/>
            </p:nvSpPr>
            <p:spPr>
              <a:xfrm>
                <a:off x="9067680" y="247644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5" name="Oval 27"/>
              <p:cNvSpPr/>
              <p:nvPr/>
            </p:nvSpPr>
            <p:spPr>
              <a:xfrm>
                <a:off x="7861320" y="3581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6" name="Oval 28"/>
              <p:cNvSpPr/>
              <p:nvPr/>
            </p:nvSpPr>
            <p:spPr>
              <a:xfrm>
                <a:off x="8724960" y="3581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7" name="Oval 29"/>
              <p:cNvSpPr/>
              <p:nvPr/>
            </p:nvSpPr>
            <p:spPr>
              <a:xfrm>
                <a:off x="9550440" y="3581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8" name="Oval 30"/>
              <p:cNvSpPr/>
              <p:nvPr/>
            </p:nvSpPr>
            <p:spPr>
              <a:xfrm>
                <a:off x="10375920" y="3581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9" name="Oval 31"/>
              <p:cNvSpPr/>
              <p:nvPr/>
            </p:nvSpPr>
            <p:spPr>
              <a:xfrm>
                <a:off x="7188120" y="436860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0" name="Oval 32"/>
              <p:cNvSpPr/>
              <p:nvPr/>
            </p:nvSpPr>
            <p:spPr>
              <a:xfrm>
                <a:off x="7721640" y="5156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1" name="Oval 33"/>
              <p:cNvSpPr/>
              <p:nvPr/>
            </p:nvSpPr>
            <p:spPr>
              <a:xfrm>
                <a:off x="8191440" y="58798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2" name="Oval 34"/>
              <p:cNvSpPr/>
              <p:nvPr/>
            </p:nvSpPr>
            <p:spPr>
              <a:xfrm>
                <a:off x="7188120" y="58798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3" name="Oval 35"/>
              <p:cNvSpPr/>
              <p:nvPr/>
            </p:nvSpPr>
            <p:spPr>
              <a:xfrm>
                <a:off x="8343720" y="436860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4" name="Oval 36"/>
              <p:cNvSpPr/>
              <p:nvPr/>
            </p:nvSpPr>
            <p:spPr>
              <a:xfrm>
                <a:off x="9067680" y="440676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5" name="Oval 37"/>
              <p:cNvSpPr/>
              <p:nvPr/>
            </p:nvSpPr>
            <p:spPr>
              <a:xfrm>
                <a:off x="8724960" y="5156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6" name="Oval 38"/>
              <p:cNvSpPr/>
              <p:nvPr/>
            </p:nvSpPr>
            <p:spPr>
              <a:xfrm>
                <a:off x="9067680" y="58420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7" name="Oval 39"/>
              <p:cNvSpPr/>
              <p:nvPr/>
            </p:nvSpPr>
            <p:spPr>
              <a:xfrm>
                <a:off x="9550440" y="5156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8" name="Oval 40"/>
              <p:cNvSpPr/>
              <p:nvPr/>
            </p:nvSpPr>
            <p:spPr>
              <a:xfrm>
                <a:off x="9664560" y="440676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9" name="Oval 41"/>
              <p:cNvSpPr/>
              <p:nvPr/>
            </p:nvSpPr>
            <p:spPr>
              <a:xfrm>
                <a:off x="10261440" y="440676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0" name="Oval 42"/>
              <p:cNvSpPr/>
              <p:nvPr/>
            </p:nvSpPr>
            <p:spPr>
              <a:xfrm>
                <a:off x="10985400" y="440676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1" name="Oval 43"/>
              <p:cNvSpPr/>
              <p:nvPr/>
            </p:nvSpPr>
            <p:spPr>
              <a:xfrm>
                <a:off x="10083600" y="5156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2" name="Oval 44"/>
              <p:cNvSpPr/>
              <p:nvPr/>
            </p:nvSpPr>
            <p:spPr>
              <a:xfrm>
                <a:off x="10680480" y="515628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3" name="Oval 45"/>
              <p:cNvSpPr/>
              <p:nvPr/>
            </p:nvSpPr>
            <p:spPr>
              <a:xfrm>
                <a:off x="11290320" y="515628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4" name="Oval 46"/>
              <p:cNvSpPr/>
              <p:nvPr/>
            </p:nvSpPr>
            <p:spPr>
              <a:xfrm>
                <a:off x="10096560" y="582912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5" name="Oval 47"/>
              <p:cNvSpPr/>
              <p:nvPr/>
            </p:nvSpPr>
            <p:spPr>
              <a:xfrm>
                <a:off x="10680480" y="5829120"/>
                <a:ext cx="317520" cy="317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6" name="Oval 48"/>
              <p:cNvSpPr/>
              <p:nvPr/>
            </p:nvSpPr>
            <p:spPr>
              <a:xfrm>
                <a:off x="11302920" y="5829120"/>
                <a:ext cx="317520" cy="31752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7" name="Line 49"/>
              <p:cNvSpPr/>
              <p:nvPr/>
            </p:nvSpPr>
            <p:spPr>
              <a:xfrm flipV="1">
                <a:off x="7896960" y="3903120"/>
                <a:ext cx="120600" cy="126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88" name="Rectangle 50"/>
            <p:cNvSpPr/>
            <p:nvPr/>
          </p:nvSpPr>
          <p:spPr>
            <a:xfrm>
              <a:off x="6959520" y="6838920"/>
              <a:ext cx="48895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MS PGothic"/>
                </a:rPr>
                <a:t>Find blue nodes and do something on each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89" name="TextBox 51"/>
          <p:cNvSpPr/>
          <p:nvPr/>
        </p:nvSpPr>
        <p:spPr>
          <a:xfrm>
            <a:off x="2009880" y="93250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lide by Hayouan L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Visitor Pattern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s object that visits the nod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ter integrated with OO paradig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0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ll fairly compl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Tree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 Tree { 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Node implements Tree {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&lt;Tree&gt; children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Leaf implements Tree {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 value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Visitor on a Tree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erface Visitable {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id accept(Visitor v);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erface Visitor {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id visit(Visitable v);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VisitableNode extends Node, implements Visitable {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id accept(Visitor v) {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.visit(this);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(VisitableNode c: children)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.accept(visitor);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VisitableLeaf extends Leaf, implements Visitable {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id accept(Visitor v) { v.visit(this); }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4880" y="11160"/>
            <a:ext cx="12029760" cy="10843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w Cen MT Condensed"/>
              </a:rPr>
              <a:t>Visitor Usage</a:t>
            </a:r>
            <a:endParaRPr b="0" lang="en-US" sz="63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004760" y="1771200"/>
            <a:ext cx="11055600" cy="7497720"/>
          </a:xfrm>
          <a:prstGeom prst="rect">
            <a:avLst/>
          </a:prstGeom>
          <a:noFill/>
          <a:ln w="0">
            <a:noFill/>
          </a:ln>
        </p:spPr>
        <p:txBody>
          <a:bodyPr lIns="131040" rIns="131040" tIns="65520" bIns="6552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Printer implements Visitor {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id visit(VisitableNode n) { 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id visit(VisitableLeaf l) { print(l.value); 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Giuseppe Attardi</cp:lastModifiedBy>
  <dcterms:modified xsi:type="dcterms:W3CDTF">2017-03-20T12:18:32Z</dcterms:modified>
  <cp:revision>131</cp:revision>
  <dc:subject/>
  <dc:title>Generators</dc:title>
</cp:coreProperties>
</file>